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12.jpeg" ContentType="image/jpeg"/>
  <Override PartName="/ppt/media/image6.wmf" ContentType="image/x-wmf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5F7-3949-48C7-814A-FEB1D556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106-32C0-4678-B0C3-327C3ED3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214-D5D6-471D-AC9C-EDFD0F83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7AE-50C3-4360-97F0-E1BFC67B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9A9-8CFE-4F9E-8355-877EB9DF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536-465D-4492-B1ED-FD415376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D38-0BA9-4B39-AC4E-3C86F465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829-40D8-41B3-921D-C712CC4E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49F-E4E0-4426-BDD3-2DBE6E1E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852-37C6-4622-902F-1646EE5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87D-00E8-45C6-8813-EB5C6B43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020-6232-4F01-A50C-3F5CFDB6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6732-351E-46C9-BA01-4C2300C92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exialearning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Computer Parts and Function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783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Speaker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vides sound for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ers with visual impairments to use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Printer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kes information from the computer and prints it o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Image taken from http://www.amazon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8320" y="3086280"/>
            <a:ext cx="38098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How A Computer Works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2209680"/>
          <a:ext cx="8458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458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Inpu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 of the things put into the computer while it is being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vided by the user-- that’s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9320" y="1981080"/>
            <a:ext cx="364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Softwar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rograms we use that run on a comp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ored on a hard drive, disk, CD, or a DV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Image taken from </a:t>
            </a:r>
            <a:r>
              <a:rPr b="0" lang="en-US" sz="800" spc="-1" strike="noStrike" u="sng">
                <a:solidFill>
                  <a:srgbClr val="66ccff"/>
                </a:solidFill>
                <a:uFillTx/>
                <a:latin typeface="Lucida Grande"/>
                <a:hlinkClick r:id="rId1"/>
              </a:rPr>
              <a:t>http://www.lexialearning.com/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2889360"/>
            <a:ext cx="380988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Hardwar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hysical parts of the computer that can be touched and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2265480"/>
            <a:ext cx="38098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CPU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uns programs we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oes all the “thinking”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kes in information from mouse, keyboard, other peripherals and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hares information using the monitor, printer, and spea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77040" y="1981080"/>
            <a:ext cx="2151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Keyboard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 to put information into the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 to tell the computer what to 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entury Gothic"/>
              </a:rPr>
              <a:t>Image taken from </a:t>
            </a:r>
            <a:r>
              <a:rPr b="0" lang="en-US" sz="800" spc="-1" strike="noStrike">
                <a:solidFill>
                  <a:srgbClr val="000000"/>
                </a:solidFill>
                <a:latin typeface="Lucida Grande"/>
              </a:rPr>
              <a:t>http://www.sandecell.com/pics/1/large/64370.jpg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Mouse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 to tell the computer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as at least one butt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ome have a little ball in the bott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ome have a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Image taken from 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http://www.germes-online.com/direct/dbimage/50305292/Computer_Mouse.jp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Monitor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ows us what we are doing with the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llows us to interact with the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Image from </a:t>
            </a:r>
            <a:r>
              <a:rPr b="0" lang="en-US" sz="900" spc="-1" strike="noStrike">
                <a:solidFill>
                  <a:srgbClr val="000000"/>
                </a:solidFill>
                <a:latin typeface="Lucida Grande"/>
              </a:rPr>
              <a:t>http://www.safecomputingtips.com/images/ergonomic-monitor.jp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8320" y="2125800"/>
            <a:ext cx="3809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9:16:39Z</dcterms:created>
  <dc:creator>Nicole Meintz</dc:creator>
  <dc:description/>
  <dc:language>en-US</dc:language>
  <cp:lastModifiedBy>Franklin High School</cp:lastModifiedBy>
  <dcterms:modified xsi:type="dcterms:W3CDTF">2008-04-04T19:48:58Z</dcterms:modified>
  <cp:revision>4</cp:revision>
  <dc:subject/>
  <dc:title>Computer Parts and Functions</dc:title>
</cp:coreProperties>
</file>